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27.gif" ContentType="image/gif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START.WAV" ContentType="audio/x-wav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E22F-4B2D-45D0-B319-6660FABBA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A608-B68B-491A-B728-18B23EAA1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DC6A-32C5-431D-86ED-2908044CA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564D-58B0-461B-AFB8-51F4D3D9F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D4A1-1266-4A87-BC59-CCF02BD75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44F0-B9F6-4625-BD24-F319A2BCB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C581-98B3-442D-B472-2E1975ED3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2693-4939-4685-99DD-DE6E13B3E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FBB1-DED9-4601-9341-D864B8717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99A3-1630-4A5E-BB8B-473FAECFD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C4E9-FAB2-4B08-95D5-D086761B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63F3-EB4D-4438-9D50-B80B429E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34EE-8259-479F-A559-FA9F9454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C710-021E-464C-9661-7F5BEE4E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2B07-8479-43FB-B085-F5B27922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8577-795F-4D70-AD17-A6D39324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1511-D34F-4495-898D-691725EC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3BDA-3732-4258-A914-38E88518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85AC-2EE1-4414-8D72-3F38603B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D0BE-FA5B-4508-8044-6EAED9FF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8000-10DB-4DF2-B66E-CB38EE46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3DAC-F914-48E0-9DF8-02E201A0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FE29-7838-4B4C-B4E9-DA12AE60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858B-7E9F-44C8-A1B7-88E531C7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58E2-717A-486C-9614-32382C10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9BBC-1D64-4221-9434-808B7459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087C-F3B6-4CB1-B374-1C648184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C7CD-E4BD-476A-8FD4-673C92B1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00F6-50E4-4929-951B-BA110013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83DC-87C7-425E-A67D-60BDB392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1362-E99D-4815-9A8A-B5850C06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39B9-D75B-4541-A489-2DF5F25B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4390-6093-4CBD-AB86-13C364EB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8C8B-E18C-456E-A454-F5938F1B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3079-35EE-4CE7-A9E9-D6B646B39D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9C7D-46DE-4EF8-8DB7-75C2137611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audio" Target="../media/START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6523200" y="4967280"/>
            <a:ext cx="2260080" cy="1440720"/>
            <a:chOff x="6523200" y="4967280"/>
            <a:chExt cx="2260080" cy="1440720"/>
          </a:xfrm>
        </p:grpSpPr>
        <p:sp>
          <p:nvSpPr>
            <p:cNvPr id="93" name="Arc 3"/>
            <p:cNvSpPr/>
            <p:nvPr/>
          </p:nvSpPr>
          <p:spPr>
            <a:xfrm>
              <a:off x="6833520" y="6239160"/>
              <a:ext cx="43920" cy="78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4" name="Group 4"/>
            <p:cNvGrpSpPr/>
            <p:nvPr/>
          </p:nvGrpSpPr>
          <p:grpSpPr>
            <a:xfrm>
              <a:off x="6523200" y="4967280"/>
              <a:ext cx="2260080" cy="1440720"/>
              <a:chOff x="6523200" y="4967280"/>
              <a:chExt cx="2260080" cy="1440720"/>
            </a:xfrm>
          </p:grpSpPr>
          <p:sp>
            <p:nvSpPr>
              <p:cNvPr id="95" name="Arc 5"/>
              <p:cNvSpPr/>
              <p:nvPr/>
            </p:nvSpPr>
            <p:spPr>
              <a:xfrm flipH="1">
                <a:off x="8073720" y="5363640"/>
                <a:ext cx="44280" cy="9507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6" name="Group 6"/>
              <p:cNvGrpSpPr/>
              <p:nvPr/>
            </p:nvGrpSpPr>
            <p:grpSpPr>
              <a:xfrm>
                <a:off x="6523200" y="4967280"/>
                <a:ext cx="2260080" cy="1440720"/>
                <a:chOff x="6523200" y="4967280"/>
                <a:chExt cx="2260080" cy="1440720"/>
              </a:xfrm>
            </p:grpSpPr>
            <p:sp>
              <p:nvSpPr>
                <p:cNvPr id="97" name="Oval 7"/>
                <p:cNvSpPr/>
                <p:nvPr/>
              </p:nvSpPr>
              <p:spPr>
                <a:xfrm rot="460800">
                  <a:off x="6833160" y="5284080"/>
                  <a:ext cx="1240920" cy="6336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8" name="Oval 8"/>
                <p:cNvSpPr/>
                <p:nvPr/>
              </p:nvSpPr>
              <p:spPr>
                <a:xfrm>
                  <a:off x="8296200" y="5442480"/>
                  <a:ext cx="221400" cy="158400"/>
                </a:xfrm>
                <a:prstGeom prst="ellips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" name="Oval 9"/>
                <p:cNvSpPr/>
                <p:nvPr/>
              </p:nvSpPr>
              <p:spPr>
                <a:xfrm>
                  <a:off x="8251560" y="5601240"/>
                  <a:ext cx="531720" cy="396000"/>
                </a:xfrm>
                <a:prstGeom prst="ellips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0" name="Oval 10"/>
                <p:cNvSpPr/>
                <p:nvPr/>
              </p:nvSpPr>
              <p:spPr>
                <a:xfrm>
                  <a:off x="8473320" y="5759640"/>
                  <a:ext cx="88560" cy="79200"/>
                </a:xfrm>
                <a:prstGeom prst="ellipse">
                  <a:avLst/>
                </a:prstGeom>
                <a:solidFill>
                  <a:srgbClr val="a3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1" name="Oval 11"/>
                <p:cNvSpPr/>
                <p:nvPr/>
              </p:nvSpPr>
              <p:spPr>
                <a:xfrm rot="498600">
                  <a:off x="7364880" y="5601240"/>
                  <a:ext cx="221400" cy="78840"/>
                </a:xfrm>
                <a:prstGeom prst="ellipse">
                  <a:avLst/>
                </a:prstGeom>
                <a:solidFill>
                  <a:srgbClr val="a3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" name="Oval 12"/>
                <p:cNvSpPr/>
                <p:nvPr/>
              </p:nvSpPr>
              <p:spPr>
                <a:xfrm>
                  <a:off x="8384760" y="5522040"/>
                  <a:ext cx="44280" cy="79200"/>
                </a:xfrm>
                <a:prstGeom prst="ellipse">
                  <a:avLst/>
                </a:prstGeom>
                <a:solidFill>
                  <a:srgbClr val="a3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" name="Arc 13"/>
                <p:cNvSpPr/>
                <p:nvPr/>
              </p:nvSpPr>
              <p:spPr>
                <a:xfrm rot="12364200">
                  <a:off x="7409520" y="5918040"/>
                  <a:ext cx="177120" cy="475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" name="Oval 14"/>
                <p:cNvSpPr/>
                <p:nvPr/>
              </p:nvSpPr>
              <p:spPr>
                <a:xfrm>
                  <a:off x="6523200" y="5918040"/>
                  <a:ext cx="620280" cy="316800"/>
                </a:xfrm>
                <a:prstGeom prst="ellips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" name="Oval 15"/>
                <p:cNvSpPr/>
                <p:nvPr/>
              </p:nvSpPr>
              <p:spPr>
                <a:xfrm>
                  <a:off x="6788880" y="6076800"/>
                  <a:ext cx="88560" cy="78840"/>
                </a:xfrm>
                <a:prstGeom prst="ellipse">
                  <a:avLst/>
                </a:prstGeom>
                <a:solidFill>
                  <a:srgbClr val="a3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" name="Arc 16"/>
                <p:cNvSpPr/>
                <p:nvPr/>
              </p:nvSpPr>
              <p:spPr>
                <a:xfrm flipH="1" rot="11002200">
                  <a:off x="8338320" y="5994000"/>
                  <a:ext cx="88560" cy="3164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7" name="Arc 17"/>
                <p:cNvSpPr/>
                <p:nvPr/>
              </p:nvSpPr>
              <p:spPr>
                <a:xfrm flipH="1" rot="10104600">
                  <a:off x="8429400" y="5997240"/>
                  <a:ext cx="88560" cy="3168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" name="Oval 18"/>
                <p:cNvSpPr/>
                <p:nvPr/>
              </p:nvSpPr>
              <p:spPr>
                <a:xfrm>
                  <a:off x="8074440" y="4967280"/>
                  <a:ext cx="132840" cy="396360"/>
                </a:xfrm>
                <a:prstGeom prst="ellipse">
                  <a:avLst/>
                </a:prstGeom>
                <a:solidFill>
                  <a:srgbClr val="ff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" name="AutoShape 19"/>
                <p:cNvSpPr/>
                <p:nvPr/>
              </p:nvSpPr>
              <p:spPr>
                <a:xfrm rot="19201800">
                  <a:off x="8024040" y="5168160"/>
                  <a:ext cx="96840" cy="293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a3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0" name="AutoShape 20"/>
                <p:cNvSpPr/>
                <p:nvPr/>
              </p:nvSpPr>
              <p:spPr>
                <a:xfrm rot="12769200">
                  <a:off x="8154000" y="5148720"/>
                  <a:ext cx="96840" cy="293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a3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1" name="Oval 21"/>
                <p:cNvSpPr/>
                <p:nvPr/>
              </p:nvSpPr>
              <p:spPr>
                <a:xfrm>
                  <a:off x="7453800" y="6155640"/>
                  <a:ext cx="487440" cy="158400"/>
                </a:xfrm>
                <a:prstGeom prst="ellips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" name="Oval 22"/>
                <p:cNvSpPr/>
                <p:nvPr/>
              </p:nvSpPr>
              <p:spPr>
                <a:xfrm>
                  <a:off x="7675560" y="6155640"/>
                  <a:ext cx="44280" cy="79200"/>
                </a:xfrm>
                <a:prstGeom prst="ellipse">
                  <a:avLst/>
                </a:prstGeom>
                <a:solidFill>
                  <a:srgbClr val="a3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13" name="WordArt 23"/>
          <p:cNvSpPr txBox="1"/>
          <p:nvPr/>
        </p:nvSpPr>
        <p:spPr>
          <a:xfrm>
            <a:off x="1060560" y="1874880"/>
            <a:ext cx="7056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体积单位的换算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4" name="WordArt 24"/>
          <p:cNvSpPr txBox="1"/>
          <p:nvPr/>
        </p:nvSpPr>
        <p:spPr>
          <a:xfrm>
            <a:off x="739800" y="1022400"/>
            <a:ext cx="51958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北师大版五年级数学下册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1" descr="认一认"/>
          <p:cNvPicPr/>
          <p:nvPr/>
        </p:nvPicPr>
        <p:blipFill>
          <a:blip r:embed="rId1"/>
          <a:stretch/>
        </p:blipFill>
        <p:spPr>
          <a:xfrm>
            <a:off x="647640" y="558720"/>
            <a:ext cx="1812960" cy="784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2" descr="2"/>
          <p:cNvPicPr/>
          <p:nvPr/>
        </p:nvPicPr>
        <p:blipFill>
          <a:blip r:embed="rId2"/>
          <a:stretch/>
        </p:blipFill>
        <p:spPr>
          <a:xfrm>
            <a:off x="646200" y="2736720"/>
            <a:ext cx="2206440" cy="2497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3" descr="3"/>
          <p:cNvPicPr/>
          <p:nvPr/>
        </p:nvPicPr>
        <p:blipFill>
          <a:blip r:embed="rId3"/>
          <a:stretch/>
        </p:blipFill>
        <p:spPr>
          <a:xfrm>
            <a:off x="2879640" y="2455920"/>
            <a:ext cx="2076480" cy="1652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4" descr="4"/>
          <p:cNvPicPr/>
          <p:nvPr/>
        </p:nvPicPr>
        <p:blipFill>
          <a:blip r:embed="rId4"/>
          <a:stretch/>
        </p:blipFill>
        <p:spPr>
          <a:xfrm>
            <a:off x="5440320" y="2157480"/>
            <a:ext cx="1733760" cy="2028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5" descr="5"/>
          <p:cNvPicPr/>
          <p:nvPr/>
        </p:nvPicPr>
        <p:blipFill>
          <a:blip r:embed="rId5"/>
          <a:stretch/>
        </p:blipFill>
        <p:spPr>
          <a:xfrm>
            <a:off x="2801880" y="3978360"/>
            <a:ext cx="2081160" cy="1820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6" descr="6"/>
          <p:cNvPicPr/>
          <p:nvPr/>
        </p:nvPicPr>
        <p:blipFill>
          <a:blip r:embed="rId6"/>
          <a:stretch/>
        </p:blipFill>
        <p:spPr>
          <a:xfrm>
            <a:off x="5402160" y="3776760"/>
            <a:ext cx="1801800" cy="21175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27"/>
          <p:cNvSpPr/>
          <p:nvPr/>
        </p:nvSpPr>
        <p:spPr>
          <a:xfrm>
            <a:off x="554040" y="1276200"/>
            <a:ext cx="683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容器内盛放液体的量一般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毫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m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作单位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6" descr="认一认"/>
          <p:cNvPicPr/>
          <p:nvPr/>
        </p:nvPicPr>
        <p:blipFill>
          <a:blip r:embed="rId1"/>
          <a:stretch/>
        </p:blipFill>
        <p:spPr>
          <a:xfrm>
            <a:off x="647640" y="515880"/>
            <a:ext cx="1754280" cy="758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7" descr="7"/>
          <p:cNvPicPr/>
          <p:nvPr/>
        </p:nvPicPr>
        <p:blipFill>
          <a:blip r:embed="rId2"/>
          <a:stretch/>
        </p:blipFill>
        <p:spPr>
          <a:xfrm>
            <a:off x="853920" y="1287360"/>
            <a:ext cx="5131080" cy="16718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8"/>
          <p:cNvSpPr/>
          <p:nvPr/>
        </p:nvSpPr>
        <p:spPr>
          <a:xfrm>
            <a:off x="569880" y="2830680"/>
            <a:ext cx="806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从里面量，棱长为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米的正方体盒子的容积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米</a:t>
            </a:r>
            <a:r>
              <a:rPr b="1" lang="en-US" sz="32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可以容纳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升的液体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29" descr="8"/>
          <p:cNvPicPr/>
          <p:nvPr/>
        </p:nvPicPr>
        <p:blipFill>
          <a:blip r:embed="rId3"/>
          <a:stretch/>
        </p:blipFill>
        <p:spPr>
          <a:xfrm>
            <a:off x="1287360" y="3843360"/>
            <a:ext cx="1760760" cy="2314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0" descr="9"/>
          <p:cNvPicPr/>
          <p:nvPr/>
        </p:nvPicPr>
        <p:blipFill>
          <a:blip r:embed="rId4"/>
          <a:stretch/>
        </p:blipFill>
        <p:spPr>
          <a:xfrm>
            <a:off x="4308480" y="3808440"/>
            <a:ext cx="29653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4324320" y="2349360"/>
                <a:ext cx="31734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毫升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厘米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1004760" y="2392200"/>
                <a:ext cx="261324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  <m:r>
                          <m:t xml:space="preserve">升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分米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6"/>
              <p:cNvSpPr txBox="1"/>
              <p:nvPr/>
            </p:nvSpPr>
            <p:spPr>
              <a:xfrm>
                <a:off x="932040" y="3711600"/>
                <a:ext cx="25653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8"/>
              <p:cNvSpPr txBox="1"/>
              <p:nvPr/>
            </p:nvSpPr>
            <p:spPr>
              <a:xfrm>
                <a:off x="4332240" y="3797280"/>
                <a:ext cx="30193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1501920" y="1413000"/>
            <a:ext cx="68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下列图形都是用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厘米</a:t>
            </a:r>
            <a:r>
              <a:rPr b="1" lang="en-US" sz="36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正方体搭成的，分别求出它们的体积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23" descr="练一练"/>
          <p:cNvPicPr/>
          <p:nvPr/>
        </p:nvPicPr>
        <p:blipFill>
          <a:blip r:embed="rId1"/>
          <a:stretch/>
        </p:blipFill>
        <p:spPr>
          <a:xfrm>
            <a:off x="2987640" y="401760"/>
            <a:ext cx="2185920" cy="627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4" descr="10"/>
          <p:cNvPicPr/>
          <p:nvPr/>
        </p:nvPicPr>
        <p:blipFill>
          <a:blip r:embed="rId2"/>
          <a:stretch/>
        </p:blipFill>
        <p:spPr>
          <a:xfrm>
            <a:off x="596880" y="2732040"/>
            <a:ext cx="8104320" cy="24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202005126161192"/>
          <p:cNvPicPr/>
          <p:nvPr/>
        </p:nvPicPr>
        <p:blipFill>
          <a:blip r:embed="rId1"/>
          <a:stretch/>
        </p:blipFill>
        <p:spPr>
          <a:xfrm>
            <a:off x="538200" y="1298520"/>
            <a:ext cx="3097080" cy="3097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2004314181428954"/>
          <p:cNvPicPr/>
          <p:nvPr/>
        </p:nvPicPr>
        <p:blipFill>
          <a:blip r:embed="rId2"/>
          <a:stretch/>
        </p:blipFill>
        <p:spPr>
          <a:xfrm>
            <a:off x="1258920" y="83664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4173480" y="1125360"/>
            <a:ext cx="4143600" cy="58140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块橡皮的体积约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  ）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4211640" y="2746440"/>
            <a:ext cx="4143240" cy="58140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台录音机的体积约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 ）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284720" y="4386240"/>
            <a:ext cx="4056120" cy="58140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运货集装箱的体积约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）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8" descr="sz_zhd56$41511130"/>
          <p:cNvPicPr/>
          <p:nvPr/>
        </p:nvPicPr>
        <p:blipFill>
          <a:blip r:embed="rId3"/>
          <a:stretch/>
        </p:blipFill>
        <p:spPr>
          <a:xfrm>
            <a:off x="828720" y="390672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9"/>
          <p:cNvSpPr/>
          <p:nvPr/>
        </p:nvSpPr>
        <p:spPr>
          <a:xfrm>
            <a:off x="5610240" y="1527120"/>
            <a:ext cx="9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cm</a:t>
            </a:r>
            <a:r>
              <a:rPr b="0" lang="en-US" sz="3600" spc="-1" strike="noStrike" baseline="30000">
                <a:solidFill>
                  <a:srgbClr val="cc0066"/>
                </a:solidFill>
                <a:latin typeface="Arial"/>
                <a:ea typeface="楷体_GB2312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6016320" y="3201840"/>
            <a:ext cx="96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dm</a:t>
            </a:r>
            <a:r>
              <a:rPr b="0" lang="en-US" sz="3600" spc="-1" strike="noStrike" baseline="30000">
                <a:solidFill>
                  <a:srgbClr val="cc0066"/>
                </a:solidFill>
                <a:latin typeface="Arial"/>
                <a:ea typeface="楷体_GB2312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6114960" y="4886280"/>
            <a:ext cx="70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m</a:t>
            </a:r>
            <a:r>
              <a:rPr b="0" lang="en-US" sz="3600" spc="-1" strike="noStrike" baseline="30000">
                <a:solidFill>
                  <a:srgbClr val="cc0066"/>
                </a:solidFill>
                <a:latin typeface="Arial"/>
                <a:ea typeface="楷体_GB2312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13" descr="练一练"/>
          <p:cNvPicPr/>
          <p:nvPr/>
        </p:nvPicPr>
        <p:blipFill>
          <a:blip r:embed="rId4"/>
          <a:stretch/>
        </p:blipFill>
        <p:spPr>
          <a:xfrm>
            <a:off x="2987640" y="401760"/>
            <a:ext cx="2185920" cy="62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6" descr="练一练"/>
          <p:cNvPicPr/>
          <p:nvPr/>
        </p:nvPicPr>
        <p:blipFill>
          <a:blip r:embed="rId1"/>
          <a:stretch/>
        </p:blipFill>
        <p:spPr>
          <a:xfrm>
            <a:off x="3159000" y="544680"/>
            <a:ext cx="2186280" cy="62676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7"/>
          <p:cNvSpPr/>
          <p:nvPr/>
        </p:nvSpPr>
        <p:spPr>
          <a:xfrm>
            <a:off x="965160" y="1198440"/>
            <a:ext cx="36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填上适当的单位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1344600" y="1913040"/>
            <a:ext cx="700416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个苹果的体积约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20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 ）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个西瓜的体积约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   ）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台冰箱的容积约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50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 ）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个火柴盒的体积约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）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个墨水瓶的容积约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）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个热水瓶的容积约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 ）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6238800" y="1870200"/>
            <a:ext cx="9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cm</a:t>
            </a:r>
            <a:r>
              <a:rPr b="0" lang="en-US" sz="3600" spc="-1" strike="noStrike" baseline="30000">
                <a:solidFill>
                  <a:srgbClr val="ff3300"/>
                </a:solidFill>
                <a:latin typeface="Arial"/>
                <a:ea typeface="楷体_GB2312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6211440" y="2470320"/>
            <a:ext cx="96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dm</a:t>
            </a:r>
            <a:r>
              <a:rPr b="0" lang="en-US" sz="3600" spc="-1" strike="noStrike" baseline="30000">
                <a:solidFill>
                  <a:srgbClr val="ff3300"/>
                </a:solidFill>
                <a:latin typeface="Arial"/>
                <a:ea typeface="楷体_GB2312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6417000" y="3108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6369120" y="3757680"/>
            <a:ext cx="9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cm</a:t>
            </a:r>
            <a:r>
              <a:rPr b="0" lang="en-US" sz="3600" spc="-1" strike="noStrike" baseline="30000">
                <a:solidFill>
                  <a:srgbClr val="ff3300"/>
                </a:solidFill>
                <a:latin typeface="Arial"/>
                <a:ea typeface="楷体_GB2312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6414120" y="4357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m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6518520" y="50385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0" descr="练一练"/>
          <p:cNvPicPr/>
          <p:nvPr/>
        </p:nvPicPr>
        <p:blipFill>
          <a:blip r:embed="rId1"/>
          <a:stretch/>
        </p:blipFill>
        <p:spPr>
          <a:xfrm>
            <a:off x="3159000" y="973080"/>
            <a:ext cx="2186280" cy="6271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1"/>
          <p:cNvSpPr/>
          <p:nvPr/>
        </p:nvSpPr>
        <p:spPr>
          <a:xfrm>
            <a:off x="1225440" y="1746360"/>
            <a:ext cx="664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购买哪种包装的酱油比较合算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23" descr="3"/>
          <p:cNvPicPr/>
          <p:nvPr/>
        </p:nvPicPr>
        <p:blipFill>
          <a:blip r:embed="rId2"/>
          <a:stretch/>
        </p:blipFill>
        <p:spPr>
          <a:xfrm>
            <a:off x="1511280" y="2933640"/>
            <a:ext cx="1425600" cy="2320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4" descr="4"/>
          <p:cNvPicPr/>
          <p:nvPr/>
        </p:nvPicPr>
        <p:blipFill>
          <a:blip r:embed="rId3"/>
          <a:stretch/>
        </p:blipFill>
        <p:spPr>
          <a:xfrm>
            <a:off x="3548160" y="2873520"/>
            <a:ext cx="1317600" cy="2392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5" descr="5"/>
          <p:cNvPicPr/>
          <p:nvPr/>
        </p:nvPicPr>
        <p:blipFill>
          <a:blip r:embed="rId4"/>
          <a:stretch/>
        </p:blipFill>
        <p:spPr>
          <a:xfrm>
            <a:off x="5734080" y="2701800"/>
            <a:ext cx="1527120" cy="2911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5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7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9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77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770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6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8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77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3" dur="770" fill="hold"/>
                                        <p:tgtEl>
                                          <p:spTgt spid="2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5" dur="77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7" dur="77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1"/>
          <p:cNvSpPr/>
          <p:nvPr/>
        </p:nvSpPr>
        <p:spPr>
          <a:xfrm>
            <a:off x="486108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38" descr="练一练"/>
          <p:cNvPicPr/>
          <p:nvPr/>
        </p:nvPicPr>
        <p:blipFill>
          <a:blip r:embed="rId1"/>
          <a:stretch/>
        </p:blipFill>
        <p:spPr>
          <a:xfrm>
            <a:off x="3102120" y="587520"/>
            <a:ext cx="2185920" cy="6267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39"/>
          <p:cNvSpPr/>
          <p:nvPr/>
        </p:nvSpPr>
        <p:spPr>
          <a:xfrm>
            <a:off x="808200" y="1538280"/>
            <a:ext cx="75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估一估杯中有多少毫升饮料，填一填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43" descr="6"/>
          <p:cNvPicPr/>
          <p:nvPr/>
        </p:nvPicPr>
        <p:blipFill>
          <a:blip r:embed="rId2"/>
          <a:stretch/>
        </p:blipFill>
        <p:spPr>
          <a:xfrm>
            <a:off x="512640" y="2452680"/>
            <a:ext cx="8402760" cy="29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1087560" y="1106640"/>
            <a:ext cx="5822640" cy="1812600"/>
            <a:chOff x="1087560" y="1106640"/>
            <a:chExt cx="5822640" cy="1812600"/>
          </a:xfrm>
        </p:grpSpPr>
        <p:sp>
          <p:nvSpPr>
            <p:cNvPr id="219" name="AutoShape 3"/>
            <p:cNvSpPr/>
            <p:nvPr/>
          </p:nvSpPr>
          <p:spPr>
            <a:xfrm>
              <a:off x="1087560" y="1106640"/>
              <a:ext cx="5375160" cy="1812600"/>
            </a:xfrm>
            <a:prstGeom prst="cloudCallout">
              <a:avLst>
                <a:gd name="adj1" fmla="val -14453"/>
                <a:gd name="adj2" fmla="val 83828"/>
              </a:avLst>
            </a:prstGeom>
            <a:solidFill>
              <a:srgbClr val="66ffff"/>
            </a:solidFill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Text Box 4"/>
            <p:cNvSpPr/>
            <p:nvPr/>
          </p:nvSpPr>
          <p:spPr>
            <a:xfrm>
              <a:off x="1200600" y="1382760"/>
              <a:ext cx="5709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   </a:t>
              </a:r>
              <a:r>
                <a:rPr b="1" lang="zh-CN" sz="5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本课小结</a:t>
              </a:r>
              <a:endParaRPr b="0" lang="en-US" sz="5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21" name="Picture 5" descr="7(6)"/>
          <p:cNvPicPr/>
          <p:nvPr/>
        </p:nvPicPr>
        <p:blipFill>
          <a:blip r:embed="rId1"/>
          <a:stretch/>
        </p:blipFill>
        <p:spPr>
          <a:xfrm>
            <a:off x="936720" y="3333600"/>
            <a:ext cx="1801800" cy="18669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3505320" y="390996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同学们，今天你们有什么收获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教学目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结合实践活动，认识体积、容积单位之间的进率，会进行体积、容积单位之间的换算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在观察、操作中，发展空间观念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同学们想探究问题，愿意和同伴进行合作交流；乐于用学过的知识解决生活中的相关的实际问题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50" autoRev="1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" dur="250" autoRev="1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" dur="250" autoRev="1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50" autoRev="1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" dur="250" autoRev="1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250" autoRev="1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2484360" y="83664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华文新魏"/>
              </a:rPr>
              <a:t>体积单位的认识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1333440" y="3375000"/>
          <a:ext cx="863640" cy="22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3375000"/>
                    <a:ext cx="86364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5"/>
          <p:cNvSpPr/>
          <p:nvPr/>
        </p:nvSpPr>
        <p:spPr>
          <a:xfrm>
            <a:off x="1116000" y="3860640"/>
            <a:ext cx="171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900000" y="447984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长度单位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543480" y="2936880"/>
            <a:ext cx="685800" cy="711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048120" y="3908520"/>
            <a:ext cx="27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平方厘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3124080" y="447984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面积单位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6229440" y="2670120"/>
            <a:ext cx="1019160" cy="1035000"/>
          </a:xfrm>
          <a:prstGeom prst="cube">
            <a:avLst>
              <a:gd name="adj" fmla="val 2659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6505560" y="2717640"/>
            <a:ext cx="14400" cy="700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12"/>
          <p:cNvSpPr/>
          <p:nvPr/>
        </p:nvSpPr>
        <p:spPr>
          <a:xfrm flipH="1" flipV="1">
            <a:off x="6519960" y="3417840"/>
            <a:ext cx="728640" cy="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13"/>
          <p:cNvSpPr/>
          <p:nvPr/>
        </p:nvSpPr>
        <p:spPr>
          <a:xfrm flipH="1">
            <a:off x="6259320" y="3417840"/>
            <a:ext cx="260280" cy="260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638680" y="39085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立方厘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5835600" y="447984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体积单位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1042920" y="534816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一条线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3191040" y="53481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一个平面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5172120" y="534816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是个立体图形</a:t>
            </a:r>
            <a:r>
              <a:rPr b="1" lang="en-US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(6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个面</a:t>
            </a:r>
            <a:r>
              <a:rPr b="1" lang="en-US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Ba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1377000" y="9381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常用的体积单位有：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349800" y="3556080"/>
            <a:ext cx="213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厘米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、分米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、米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3984840" y="1905120"/>
            <a:ext cx="5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立方厘米、立方分米、立方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3659760" y="273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可记作：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3958560" y="42069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或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2278080" y="4869000"/>
            <a:ext cx="475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华文新魏"/>
              </a:rPr>
              <a:t>cm</a:t>
            </a:r>
            <a:r>
              <a:rPr b="1" lang="en-US" sz="5400" spc="-1" strike="noStrike" baseline="30000">
                <a:solidFill>
                  <a:srgbClr val="ff3300"/>
                </a:solidFill>
                <a:latin typeface="Arial"/>
                <a:ea typeface="华文新魏"/>
              </a:rPr>
              <a:t>3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、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华文新魏"/>
              </a:rPr>
              <a:t>dm</a:t>
            </a:r>
            <a:r>
              <a:rPr b="1" lang="en-US" sz="5400" spc="-1" strike="noStrike" baseline="30000">
                <a:solidFill>
                  <a:srgbClr val="ff3300"/>
                </a:solidFill>
                <a:latin typeface="Arial"/>
                <a:ea typeface="华文新魏"/>
              </a:rPr>
              <a:t>3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、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华文新魏"/>
              </a:rPr>
              <a:t>m</a:t>
            </a:r>
            <a:r>
              <a:rPr b="1" lang="en-US" sz="5400" spc="-1" strike="noStrike" baseline="30000">
                <a:solidFill>
                  <a:srgbClr val="ff3300"/>
                </a:solidFill>
                <a:latin typeface="Arial"/>
                <a:ea typeface="华文新魏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627120" y="1676520"/>
            <a:ext cx="81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棱长为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厘米的正方体，体积是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厘米</a:t>
            </a:r>
            <a:r>
              <a:rPr b="1" lang="en-US" sz="36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记作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cm</a:t>
            </a:r>
            <a:r>
              <a:rPr b="1" lang="en-US" sz="36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5226120" y="3462480"/>
            <a:ext cx="1878120" cy="199044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5"/>
          <p:cNvSpPr/>
          <p:nvPr/>
        </p:nvSpPr>
        <p:spPr>
          <a:xfrm>
            <a:off x="2440080" y="3375000"/>
            <a:ext cx="631800" cy="6318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2440080" y="4006800"/>
            <a:ext cx="4730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2913120" y="3847680"/>
            <a:ext cx="158760" cy="1587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8"/>
          <p:cNvSpPr/>
          <p:nvPr/>
        </p:nvSpPr>
        <p:spPr>
          <a:xfrm flipV="1">
            <a:off x="2913120" y="3533760"/>
            <a:ext cx="0" cy="4730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2329560" y="39704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c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10"/>
          <p:cNvSpPr/>
          <p:nvPr/>
        </p:nvSpPr>
        <p:spPr>
          <a:xfrm rot="19140000">
            <a:off x="2796480" y="37699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c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11"/>
          <p:cNvSpPr/>
          <p:nvPr/>
        </p:nvSpPr>
        <p:spPr>
          <a:xfrm rot="16200000">
            <a:off x="2441520" y="35787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c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Oval 12"/>
          <p:cNvSpPr/>
          <p:nvPr/>
        </p:nvSpPr>
        <p:spPr>
          <a:xfrm>
            <a:off x="5226120" y="3284640"/>
            <a:ext cx="576360" cy="512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3"/>
          <p:cNvSpPr/>
          <p:nvPr/>
        </p:nvSpPr>
        <p:spPr>
          <a:xfrm>
            <a:off x="826920" y="2773440"/>
            <a:ext cx="2624400" cy="26240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826920" y="5397480"/>
            <a:ext cx="19670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Line 5"/>
          <p:cNvSpPr/>
          <p:nvPr/>
        </p:nvSpPr>
        <p:spPr>
          <a:xfrm flipV="1">
            <a:off x="2793960" y="4740120"/>
            <a:ext cx="657360" cy="657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Line 6"/>
          <p:cNvSpPr/>
          <p:nvPr/>
        </p:nvSpPr>
        <p:spPr>
          <a:xfrm flipV="1">
            <a:off x="2793960" y="3430440"/>
            <a:ext cx="0" cy="19670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1364760" y="52768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d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8"/>
          <p:cNvSpPr/>
          <p:nvPr/>
        </p:nvSpPr>
        <p:spPr>
          <a:xfrm rot="19140000">
            <a:off x="2890800" y="49305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d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9"/>
          <p:cNvSpPr/>
          <p:nvPr/>
        </p:nvSpPr>
        <p:spPr>
          <a:xfrm rot="16200000">
            <a:off x="2005200" y="41648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d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598320" y="979560"/>
            <a:ext cx="815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棱长为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米的正方体，体积是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米</a:t>
            </a:r>
            <a:r>
              <a:rPr b="1" lang="en-US" sz="36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记作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dm</a:t>
            </a:r>
            <a:r>
              <a:rPr b="1" lang="en-US" sz="36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15" descr="图片1"/>
          <p:cNvPicPr/>
          <p:nvPr/>
        </p:nvPicPr>
        <p:blipFill>
          <a:blip r:embed="rId1"/>
          <a:stretch/>
        </p:blipFill>
        <p:spPr>
          <a:xfrm>
            <a:off x="3876840" y="3030480"/>
            <a:ext cx="46717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rcRect l="42501" t="17029" r="4412" b="43"/>
          <a:stretch/>
        </p:blipFill>
        <p:spPr>
          <a:xfrm>
            <a:off x="1590840" y="2286000"/>
            <a:ext cx="5976720" cy="38862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 rot="701400">
            <a:off x="3334320" y="4616280"/>
            <a:ext cx="8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084320" y="1050840"/>
            <a:ext cx="72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棱长为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米的正方体，体积是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米</a:t>
            </a:r>
            <a:r>
              <a:rPr b="1" lang="en-US" sz="36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记作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m</a:t>
            </a:r>
            <a:r>
              <a:rPr b="1" lang="en-US" sz="36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3" name="Picture 13" descr="做一做"/>
          <p:cNvPicPr/>
          <p:nvPr/>
        </p:nvPicPr>
        <p:blipFill>
          <a:blip r:embed="rId1"/>
          <a:stretch/>
        </p:blipFill>
        <p:spPr>
          <a:xfrm>
            <a:off x="646200" y="682560"/>
            <a:ext cx="1855800" cy="6555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4"/>
          <p:cNvSpPr/>
          <p:nvPr/>
        </p:nvSpPr>
        <p:spPr>
          <a:xfrm>
            <a:off x="641520" y="1922400"/>
            <a:ext cx="6945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用橡皮泥切出一些体积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厘米</a:t>
            </a:r>
            <a:r>
              <a:rPr b="1" lang="en-US" sz="32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正方体。拼一拼，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厘米</a:t>
            </a:r>
            <a:r>
              <a:rPr b="1" lang="en-US" sz="28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厘米</a:t>
            </a:r>
            <a:r>
              <a:rPr b="1" lang="en-US" sz="28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厘米</a:t>
            </a:r>
            <a:r>
              <a:rPr b="1" lang="en-US" sz="28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别有多大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585720" y="3795840"/>
            <a:ext cx="69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用硬纸板做一个体积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米</a:t>
            </a:r>
            <a:r>
              <a:rPr b="1" lang="en-US" sz="32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正方体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6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7" name="Picture 4" descr="做一做"/>
          <p:cNvPicPr/>
          <p:nvPr/>
        </p:nvPicPr>
        <p:blipFill>
          <a:blip r:embed="rId1"/>
          <a:stretch/>
        </p:blipFill>
        <p:spPr>
          <a:xfrm>
            <a:off x="646200" y="682560"/>
            <a:ext cx="1855800" cy="6555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7"/>
          <p:cNvSpPr/>
          <p:nvPr/>
        </p:nvSpPr>
        <p:spPr>
          <a:xfrm>
            <a:off x="544680" y="1531800"/>
            <a:ext cx="68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用米尺在墙角处搭出一个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米</a:t>
            </a:r>
            <a:r>
              <a:rPr b="1" lang="en-US" sz="32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空间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8" descr="xxsx5bpage42"/>
          <p:cNvPicPr/>
          <p:nvPr/>
        </p:nvPicPr>
        <p:blipFill>
          <a:blip r:embed="rId2"/>
          <a:stretch/>
        </p:blipFill>
        <p:spPr>
          <a:xfrm>
            <a:off x="2338560" y="1914480"/>
            <a:ext cx="4527360" cy="28670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9"/>
          <p:cNvSpPr/>
          <p:nvPr/>
        </p:nvSpPr>
        <p:spPr>
          <a:xfrm>
            <a:off x="600120" y="4695840"/>
            <a:ext cx="68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同学手拉手，围出一个大约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米</a:t>
            </a:r>
            <a:r>
              <a:rPr b="1" lang="en-US" sz="32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空间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>administrator</cp:lastModifiedBy>
  <dcterms:modified xsi:type="dcterms:W3CDTF">2016-03-15T01:04:35Z</dcterms:modified>
  <cp:revision>1486</cp:revision>
  <dc:subject/>
  <dc:title>PowerPoint 演示文稿</dc:title>
</cp:coreProperties>
</file>